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2FF-AECA-454A-8E62-B17B388C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7ABA-6919-4407-9437-E4EBAB6A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B77-7BCC-4A1A-822E-94DFB278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842-57B8-4211-824B-4F47F459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981-4571-4A7B-949E-DA075793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C848-4D6E-436B-A4DB-89544354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742E-4EE3-438E-A628-32CD19B3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CB0-9A18-4F22-AD84-8A8A04C3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BB5-6E0F-4AA4-8B32-00403315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BC28-3717-47A5-85D9-666C11B0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495-44D0-4B20-BD62-A974AE79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E873-6B30-4537-B808-76332EE8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ECB2-DE49-4509-9DD5-A5F0F211D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94560" cy="5021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40120" y="3213000"/>
            <a:ext cx="6095880" cy="72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comic"/>
              </a:rPr>
              <a:t>                         </a:t>
            </a:r>
            <a:r>
              <a:rPr b="1" lang="en-US" sz="4000" spc="-1" strike="noStrike">
                <a:solidFill>
                  <a:srgbClr val="969696"/>
                </a:solidFill>
                <a:latin typeface="comic"/>
              </a:rPr>
              <a:t>   </a:t>
            </a:r>
            <a:r>
              <a:rPr b="1" lang="bg-BG" sz="4000" spc="-1" strike="noStrike">
                <a:solidFill>
                  <a:srgbClr val="969696"/>
                </a:solidFill>
                <a:latin typeface="comic"/>
              </a:rPr>
              <a:t>63</a:t>
            </a:r>
            <a:r>
              <a:rPr b="1" lang="en-US" sz="4000" spc="-1" strike="noStrike">
                <a:solidFill>
                  <a:srgbClr val="bbe0e3"/>
                </a:solidFill>
                <a:latin typeface="Monotype Corsiv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На Господа Христа благодатта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любовта на Отца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и общението на Дух Святи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да е с нас всички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със нас всички! Ами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5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8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8:13:40Z</dcterms:created>
  <dc:creator>TrifonTrifonow</dc:creator>
  <dc:description/>
  <dc:language>en-US</dc:language>
  <cp:lastModifiedBy>TrifonTrifonow</cp:lastModifiedBy>
  <dcterms:modified xsi:type="dcterms:W3CDTF">2005-11-23T18:19:31Z</dcterms:modified>
  <cp:revision>3</cp:revision>
  <dc:subject/>
  <dc:title>Slide 1</dc:title>
</cp:coreProperties>
</file>